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0.png" ContentType="image/png"/>
  <Override PartName="/ppt/media/image6.jpeg" ContentType="image/jpeg"/>
  <Override PartName="/ppt/media/image4.gif" ContentType="image/gif"/>
  <Override PartName="/ppt/media/image22.jpeg" ContentType="image/jpe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806B6C-3C1B-4D1F-83FD-3AD2B5A5179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838-892E-4E99-9F69-88F026C1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1C02-97C2-493D-A76E-05E7A41C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79B-33ED-4FCF-9F11-59F070A5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D77-A0A5-4E58-A0CC-23D2CBFC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E0E4-D140-40E2-9039-A2BCB31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340-F7AC-41E0-BF7B-04B44F66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C85B-A5D7-47EF-B96F-744E6198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67B3-1320-4B9F-B004-AECA442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C2EA-45C4-4DE3-AC27-1F50410E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4811-CE06-4485-B986-82C37ED1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CD14-5C42-44C4-9B77-8A759DB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7BF-22E1-4EEA-AC9F-6643F428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3A26-077F-43A0-B286-FF5E57B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62E-4456-4836-8B28-E05753B7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75AF-E2C9-4F4E-8BBC-DAC0B70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5971-2571-4E61-A966-2E301B50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9184-4BB8-433D-B6AE-509789BA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C205-B764-44E4-BA04-737181FA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5CD-39D7-44F2-827A-701F264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FED-918B-41F1-A5E8-43CFB347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AC3-443C-44AB-B749-20254819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77B-CBC7-48FC-98E1-5B2D84A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9A8-9528-446A-8FB9-B134B7DA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835-381C-4C80-9A5F-320038C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FA77-38FB-4FDA-BEF9-1B43BE1BCD15}" type="slidenum"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3A1-4EAB-47C3-A444-B5711B7E3A6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jx@cc.gatech.edu" TargetMode="External"/><Relationship Id="rId2" Type="http://schemas.openxmlformats.org/officeDocument/2006/relationships/hyperlink" Target="mailto:hic@cc.gatech.edu" TargetMode="External"/><Relationship Id="rId3" Type="http://schemas.openxmlformats.org/officeDocument/2006/relationships/hyperlink" Target="mailto:rehg@cc.gatech.edu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tegorizingplaces.com/" TargetMode="External"/><Relationship Id="rId2" Type="http://schemas.openxmlformats.org/officeDocument/2006/relationships/hyperlink" Target="http://categorizingplace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A New Dataset of Home Interiors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Visual Place Catego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335232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Garamond"/>
                <a:ea typeface="宋体"/>
              </a:rPr>
              <a:t>Robotics &amp; Intelligent Machines (RIM) Center</a:t>
            </a:r>
            <a:br>
              <a:rPr sz="2400"/>
            </a:br>
            <a:r>
              <a:rPr b="0" lang="en-US" sz="2400" spc="-1" strike="noStrike">
                <a:solidFill>
                  <a:srgbClr val="999900"/>
                </a:solidFill>
                <a:latin typeface="Garamond"/>
                <a:ea typeface="宋体"/>
              </a:rPr>
              <a:t>College of Computing, Georgia Institute of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Jianxin Wu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1"/>
              </a:rPr>
              <a:t>wujx@cc.gatech.edu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Henrik Christensen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2"/>
              </a:rPr>
              <a:t>hic@cc.gatech.edu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James Rehg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ea typeface="宋体"/>
                <a:hlinkClick r:id="rId3"/>
              </a:rPr>
              <a:t>rehg@cc.gatech.edu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Why is VPC Challenging?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  <a:ea typeface="宋体"/>
              </a:rPr>
              <a:t>––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  <a:ea typeface="宋体"/>
              </a:rPr>
              <a:t>cont’d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439720" cy="137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440080" cy="1373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1280" y="4648320"/>
            <a:ext cx="69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(Randomly chose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living ro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frames from 6 different homes in the VPC datas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440080" cy="1373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62120" y="3200400"/>
            <a:ext cx="2439720" cy="1373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352680" y="3200400"/>
            <a:ext cx="2440080" cy="1373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5943600" y="3200400"/>
            <a:ext cx="2440080" cy="1373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5800" y="5257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o canonical / characteristic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 large portion of frames are non-inform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961-2193-4D65-BA25-2E9818CEBD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The VPC datase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e collect a VPC dataset of home interi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Facilitate research in V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urrently 6 ho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-2 GB per h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000 – 10000 frames per h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 categories annot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6B8-2B58-4EAF-8261-F150ABB72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More details of the datase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se 5 categ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edroom, bathroom, kitchen, living room, dining room that appear in all h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eave one out cross vali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Use 5 homes for training, the other 1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rt of the development k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9DD-042E-4BA8-88B0-4EB276EBCF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One example aspect of VP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1523880"/>
            <a:ext cx="28195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ous output of category names for every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WindowsMediaPlayer1"/>
          <p:cNvGraphicFramePr/>
          <p:nvPr/>
        </p:nvGraphicFramePr>
        <p:xfrm>
          <a:off x="541440" y="1606680"/>
          <a:ext cx="55450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606680"/>
                    <a:ext cx="55450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85800" y="5943600"/>
            <a:ext cx="533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name for external playing: Home5_floor2_groundtruth2.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7C6-C81A-42EE-9D6F-FEF700602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Result vide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626436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For details, please refer to J. Wu, H. Christensen, J. Rehg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Visual Place Categorization: Problem, Dataset, and Algorith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, to appear in IROS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WindowsMediaPlayer1"/>
          <p:cNvGraphicFramePr/>
          <p:nvPr/>
        </p:nvGraphicFramePr>
        <p:xfrm>
          <a:off x="1525680" y="167796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67796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590920" y="5791320"/>
            <a:ext cx="53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name for external playing: Home5_floor2.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8CD-3305-4CC9-8A58-21C339D67C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Category Accurac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1600200"/>
          <a:ext cx="2743200" cy="1271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d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6.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ath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4.3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Kit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4.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419720" y="1828800"/>
          <a:ext cx="3276360" cy="87444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</a:tblGrid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iving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7.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Dining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57200" y="297180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Living room and dining room are difficul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Even only use these two categories, living room 64.61% accuracy, dining room 47.84% (random guess is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onjectures: larger variations in living room &amp; “key object” of these categories usually large so only partially 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32A-0F61-475D-9F06-0DAE1F19D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990720"/>
            <a:ext cx="83822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06720" y="2187720"/>
            <a:ext cx="66974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Verdana"/>
                <a:ea typeface="宋体"/>
                <a:hlinkClick r:id="rId1"/>
              </a:rPr>
              <a:t>categorizingplaces.com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Verdana"/>
                <a:ea typeface="宋体"/>
                <a:hlinkClick r:id="rId2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Dataset &amp; development 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025-7FF1-4459-B88D-681FD31756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Definition of VP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308560" cy="340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6819840" y="4394160"/>
            <a:ext cx="190440" cy="444600"/>
          </a:xfrm>
          <a:custGeom>
            <a:avLst/>
            <a:gdLst/>
            <a:ahLst/>
            <a:rect l="l" t="t" r="r" b="b"/>
            <a:pathLst>
              <a:path w="120" h="280">
                <a:moveTo>
                  <a:pt x="0" y="280"/>
                </a:moveTo>
                <a:cubicBezTo>
                  <a:pt x="14" y="222"/>
                  <a:pt x="61" y="184"/>
                  <a:pt x="80" y="128"/>
                </a:cubicBezTo>
                <a:cubicBezTo>
                  <a:pt x="86" y="77"/>
                  <a:pt x="83" y="37"/>
                  <a:pt x="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97680" y="4352760"/>
            <a:ext cx="266760" cy="66960"/>
          </a:xfrm>
          <a:custGeom>
            <a:avLst/>
            <a:gdLst/>
            <a:ahLst/>
            <a:rect l="l" t="t" r="r" b="b"/>
            <a:pathLst>
              <a:path w="168" h="42">
                <a:moveTo>
                  <a:pt x="0" y="42"/>
                </a:moveTo>
                <a:cubicBezTo>
                  <a:pt x="16" y="39"/>
                  <a:pt x="33" y="41"/>
                  <a:pt x="48" y="34"/>
                </a:cubicBezTo>
                <a:cubicBezTo>
                  <a:pt x="95" y="11"/>
                  <a:pt x="32" y="6"/>
                  <a:pt x="88" y="2"/>
                </a:cubicBezTo>
                <a:cubicBezTo>
                  <a:pt x="115" y="0"/>
                  <a:pt x="141" y="2"/>
                  <a:pt x="168" y="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1080" y="4368960"/>
            <a:ext cx="53640" cy="291960"/>
          </a:xfrm>
          <a:custGeom>
            <a:avLst/>
            <a:gdLst/>
            <a:ahLst/>
            <a:rect l="l" t="t" r="r" b="b"/>
            <a:pathLst>
              <a:path w="34" h="184">
                <a:moveTo>
                  <a:pt x="32" y="0"/>
                </a:moveTo>
                <a:cubicBezTo>
                  <a:pt x="29" y="59"/>
                  <a:pt x="34" y="118"/>
                  <a:pt x="24" y="176"/>
                </a:cubicBezTo>
                <a:cubicBezTo>
                  <a:pt x="23" y="184"/>
                  <a:pt x="0" y="184"/>
                  <a:pt x="0" y="1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038320"/>
            <a:ext cx="2514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Visual place categorization (VPC) is the problem of predicting the semantic category of a place using visual information collected from an autonomous robot plat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705720" y="4038120"/>
            <a:ext cx="609480" cy="838800"/>
            <a:chOff x="6705720" y="4038120"/>
            <a:chExt cx="609480" cy="838800"/>
          </a:xfrm>
        </p:grpSpPr>
        <p:sp>
          <p:nvSpPr>
            <p:cNvPr id="106" name=""/>
            <p:cNvSpPr/>
            <p:nvPr/>
          </p:nvSpPr>
          <p:spPr>
            <a:xfrm>
              <a:off x="6705720" y="47242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781680" y="4038120"/>
              <a:ext cx="22860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58000" y="4190760"/>
              <a:ext cx="45720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5308560" cy="340812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6934320" y="4165200"/>
            <a:ext cx="761400" cy="381240"/>
            <a:chOff x="6934320" y="4165200"/>
            <a:chExt cx="761400" cy="381240"/>
          </a:xfrm>
        </p:grpSpPr>
        <p:sp>
          <p:nvSpPr>
            <p:cNvPr id="111" name=""/>
            <p:cNvSpPr/>
            <p:nvPr/>
          </p:nvSpPr>
          <p:spPr>
            <a:xfrm>
              <a:off x="6934320" y="4317840"/>
              <a:ext cx="15228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010280" y="4165200"/>
              <a:ext cx="68544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6600" y="4394160"/>
              <a:ext cx="60912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009920" y="4267080"/>
            <a:ext cx="457560" cy="762120"/>
            <a:chOff x="7009920" y="4267080"/>
            <a:chExt cx="457560" cy="762120"/>
          </a:xfrm>
        </p:grpSpPr>
        <p:sp>
          <p:nvSpPr>
            <p:cNvPr id="115" name=""/>
            <p:cNvSpPr/>
            <p:nvPr/>
          </p:nvSpPr>
          <p:spPr>
            <a:xfrm>
              <a:off x="7162560" y="4267080"/>
              <a:ext cx="15264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38880" y="4419720"/>
              <a:ext cx="22860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009920" y="4419720"/>
              <a:ext cx="22860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00400" y="1905120"/>
            <a:ext cx="5308560" cy="340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849-6741-4DB3-9539-B27930C67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Where am I? –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  <a:ea typeface="宋体"/>
              </a:rPr>
              <a:t>Robot mapping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1676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SLA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: 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  <a:ea typeface="Gulim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imultaneous 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  <a:ea typeface="Gulim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ocalization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  <a:ea typeface="Gulim"/>
              </a:rPr>
              <a:t>	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  <a:ea typeface="Gulim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nd 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  <a:ea typeface="Gulim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here am 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nswer: Location (50, 25) in the metric 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897280" cy="2111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37339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[Animation courtesy of Michael Kaess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5495760" cy="178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1240" y="5745240"/>
            <a:ext cx="270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[Picture from CMU H-SLAM proje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4191120"/>
            <a:ext cx="2895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here am 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nswer: In place N3 in the topological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E46-38B8-4928-B96D-38E9C0B12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Where am I 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  <a:ea typeface="宋体"/>
              </a:rPr>
              <a:t>– Scene recognition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1523880"/>
            <a:ext cx="4457880" cy="2611440"/>
            <a:chOff x="838080" y="1523880"/>
            <a:chExt cx="4457880" cy="26114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1746360" cy="26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2700360" y="1523880"/>
              <a:ext cx="2595600" cy="26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2605320" cy="26053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1194120" y="4152960"/>
            <a:ext cx="3261600" cy="654480"/>
            <a:chOff x="1194120" y="4152960"/>
            <a:chExt cx="3261600" cy="654480"/>
          </a:xfrm>
        </p:grpSpPr>
        <p:grpSp>
          <p:nvGrpSpPr>
            <p:cNvPr id="133" name=""/>
            <p:cNvGrpSpPr/>
            <p:nvPr/>
          </p:nvGrpSpPr>
          <p:grpSpPr>
            <a:xfrm>
              <a:off x="1194120" y="4165560"/>
              <a:ext cx="1098000" cy="641880"/>
              <a:chOff x="1194120" y="4165560"/>
              <a:chExt cx="1098000" cy="641880"/>
            </a:xfrm>
          </p:grpSpPr>
          <p:sp>
            <p:nvSpPr>
              <p:cNvPr id="134" name=""/>
              <p:cNvSpPr/>
              <p:nvPr/>
            </p:nvSpPr>
            <p:spPr>
              <a:xfrm>
                <a:off x="1194120" y="4470120"/>
                <a:ext cx="109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ff"/>
                    </a:solidFill>
                    <a:latin typeface="Verdana"/>
                    <a:ea typeface="宋体"/>
                  </a:rPr>
                  <a:t>bedroo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00200" y="416556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510000" y="4152960"/>
              <a:ext cx="945720" cy="641880"/>
              <a:chOff x="3510000" y="4152960"/>
              <a:chExt cx="945720" cy="641880"/>
            </a:xfrm>
          </p:grpSpPr>
          <p:sp>
            <p:nvSpPr>
              <p:cNvPr id="137" name=""/>
              <p:cNvSpPr/>
              <p:nvPr/>
            </p:nvSpPr>
            <p:spPr>
              <a:xfrm>
                <a:off x="3510000" y="445752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66ff"/>
                    </a:solidFill>
                    <a:latin typeface="Verdana"/>
                    <a:ea typeface="宋体"/>
                  </a:rPr>
                  <a:t>kitch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86200" y="4152960"/>
                <a:ext cx="152280" cy="380880"/>
              </a:xfrm>
              <a:prstGeom prst="downArrow">
                <a:avLst>
                  <a:gd name="adj1" fmla="val 50000"/>
                  <a:gd name="adj2" fmla="val 6253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6223320" y="4152960"/>
            <a:ext cx="1192680" cy="641880"/>
            <a:chOff x="6223320" y="4152960"/>
            <a:chExt cx="1192680" cy="641880"/>
          </a:xfrm>
        </p:grpSpPr>
        <p:sp>
          <p:nvSpPr>
            <p:cNvPr id="140" name=""/>
            <p:cNvSpPr/>
            <p:nvPr/>
          </p:nvSpPr>
          <p:spPr>
            <a:xfrm>
              <a:off x="6223320" y="4457520"/>
              <a:ext cx="119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Verdana"/>
                  <a:ea typeface="宋体"/>
                </a:rPr>
                <a:t>bath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415296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Where am 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nswer: In the bedroom / kitchen / bath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212-E0E8-4CCB-82E6-D7E1B5B94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WindowsMediaPlayer1"/>
          <p:cNvGraphicFramePr/>
          <p:nvPr/>
        </p:nvGraphicFramePr>
        <p:xfrm>
          <a:off x="685800" y="1523880"/>
          <a:ext cx="7704000" cy="44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04000" cy="44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Video from the VPC datase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1341000" y="6045120"/>
            <a:ext cx="66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deo too big to be embedded. Please see the VPC dataset for vid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740-0A79-412A-B535-CFB5287F1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osest related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2264400" y="5715000"/>
            <a:ext cx="478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le name for external playing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permovie6.a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om Torralba, Murphy, and Freeman ICCV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WindowsMediaPlayer1"/>
          <p:cNvGraphicFramePr/>
          <p:nvPr/>
        </p:nvGraphicFramePr>
        <p:xfrm>
          <a:off x="1531800" y="1527120"/>
          <a:ext cx="607860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527120"/>
                    <a:ext cx="60786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EF2-3803-4D2C-9ED9-22F54718B6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paring datase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 guidance in data col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PC: autonomo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s. implicit human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PC: high resolution, high quality, 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s. low resolution, jit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teg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PC: indoor rooms, e.g. bedroom, kitchen, et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s. kitchen, lobby, open space, corridor, office, plaza, stre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WindowsMediaPlayer1"/>
          <p:cNvGraphicFramePr/>
          <p:nvPr/>
        </p:nvGraphicFramePr>
        <p:xfrm>
          <a:off x="7086600" y="1600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600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086600" y="3962520"/>
            <a:ext cx="182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name for external playing: Torralba_office.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D65-52DE-4905-87FE-053AFABF4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VPC Video collection platfor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523880"/>
            <a:ext cx="3962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utonomous data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igh image qu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igh fram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igh mo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ot a real robo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243864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E88-93DC-4B97-825F-5DFEBE1743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  <a:ea typeface="宋体"/>
              </a:rPr>
              <a:t>Why is VPC Challenging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2120" y="1676520"/>
            <a:ext cx="7621560" cy="2896920"/>
            <a:chOff x="762120" y="1676520"/>
            <a:chExt cx="7621560" cy="28969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520"/>
              <a:ext cx="243972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352680" y="1676520"/>
              <a:ext cx="244008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5943600" y="1676520"/>
              <a:ext cx="244008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762120" y="3200400"/>
              <a:ext cx="243972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3352680" y="3200400"/>
              <a:ext cx="2440080" cy="13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5943600" y="3200400"/>
              <a:ext cx="2440080" cy="137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685800" y="5257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Huge variation among images from the same category;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Limited field of view (when robot is close the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5800" y="4648320"/>
            <a:ext cx="67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(Randomly chose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bedro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frames from 6 different homes in the VPC datas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516-4C5E-47B2-BB70-9C136CC88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58:43Z</dcterms:created>
  <dc:creator>George P. Burdell</dc:creator>
  <dc:description/>
  <dc:language>en-US</dc:language>
  <cp:lastModifiedBy>Jianxin Wu</cp:lastModifiedBy>
  <dcterms:modified xsi:type="dcterms:W3CDTF">2009-06-26T19:35:55Z</dcterms:modified>
  <cp:revision>239</cp:revision>
  <dc:subject/>
  <dc:title>Visual Place Categor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